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82360" y="479520"/>
            <a:ext cx="5003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3047760" y="-36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Lecture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IAS 32 &amp; IAS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685440" y="937584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PMG Logo"/>
              </a:rPr>
              <a:t>kpm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445BFDFA-0B45-4429-B0C1-C367BF05E8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964548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 that for current IAS companies: Cannot state that they report under IAS unless all standards and interpretations are fo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at beginning of financial year in which IAS 39 is ado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no restatement of earlier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ition adjustments are to beginning retained earn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 retrospective changes may be mad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”redesignate” hed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actions not meeting this criteria under IAS 39 for derecognition are only affected prospect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 39.1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dicated resources are key to an organised implementation project. The implementation team can devote the time to identifying the enterprise’s issues, and determine whether outside assistance is necessar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rocess for communication should be set 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l pa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parties – analysts, major investors, lenders want to know the impact of IAS 39 on the enterprise’s bottom line. Internal and external auditors will also focus heavily on implemen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team identifies the key issu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is will involve reviewing current practices of the enterprise, and anticipated new transactions/activ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9AD-D50E-434E-BC4E-5CED3104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D13-ACAF-44B9-81E4-FC73675D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B16-7B55-41F9-8C32-7E7F2940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15B-79D1-4770-92EA-44817A5B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976-71D7-4A12-9A2B-16D06500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7CD-03D6-459C-9D1E-ABEBF437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CC5-656D-4CEA-8CDD-1D97C73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27D-2CA2-47E1-AADD-B4188E2D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FA9-4D23-4B5B-B481-895A80DF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FA4-773A-468E-A683-CB9FB7A8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996-5EE4-48FA-8383-E46AF9CB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9FA-0603-413C-B00D-5E032134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2" marL="922320" indent="-1573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3" marL="12621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4" marL="160164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5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6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33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481800" y="630072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1800" y="630072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56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C05AE8-8868-4BC6-9140-F2296AD51E7C}" type="slidenum"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673680"/>
            <a:ext cx="266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ransition rule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20"/>
            <a:ext cx="9904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No restatement of prior period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no hedge relationship: cannot retrospectively designate as hed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a hedge relationship: provisions of Standard should be applied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pon adoption: all derivatives are capitalised at fair value, and other financial instruments measured at fair value or at cost depending on classifica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Difference of remeasurement are recorded as adjustment of beginning retained earning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Finally…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mplemen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Business process and accounting policy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IT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Structured rollout including training (as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ser acceptance testing of chan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Accounting transition adjustment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cord all FI on balance sheet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</a:t>
            </a:r>
            <a:r>
              <a:rPr b="0" lang="tr-TR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measure applicable FI to fair value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84960" y="2719440"/>
            <a:ext cx="18525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Produce IT specifications for workarounds and system enhancement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Specification of BP changes </a:t>
            </a:r>
            <a:r>
              <a:rPr b="0" lang="nl-NL" sz="900" spc="-1" strike="noStrike">
                <a:solidFill>
                  <a:srgbClr val="000000"/>
                </a:solidFill>
                <a:latin typeface="Univers 45 Light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e.g. new procedures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5160" y="1600200"/>
            <a:ext cx="1450800" cy="1069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89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1703520"/>
            <a:ext cx="2235240" cy="92700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1800" y="1703520"/>
            <a:ext cx="2496960" cy="928440"/>
            <a:chOff x="3241800" y="1703520"/>
            <a:chExt cx="2496960" cy="928440"/>
          </a:xfrm>
        </p:grpSpPr>
        <p:sp>
          <p:nvSpPr>
            <p:cNvPr id="126" name=""/>
            <p:cNvSpPr/>
            <p:nvPr/>
          </p:nvSpPr>
          <p:spPr>
            <a:xfrm>
              <a:off x="3241800" y="1703520"/>
              <a:ext cx="2496960" cy="928440"/>
            </a:xfrm>
            <a:custGeom>
              <a:avLst/>
              <a:gdLst/>
              <a:ahLst/>
              <a:rect l="l" t="t" r="r" b="b"/>
              <a:pathLst>
                <a:path w="1573" h="585">
                  <a:moveTo>
                    <a:pt x="1179" y="0"/>
                  </a:moveTo>
                  <a:lnTo>
                    <a:pt x="0" y="0"/>
                  </a:lnTo>
                  <a:lnTo>
                    <a:pt x="393" y="292"/>
                  </a:lnTo>
                  <a:lnTo>
                    <a:pt x="0" y="584"/>
                  </a:lnTo>
                  <a:lnTo>
                    <a:pt x="1179" y="584"/>
                  </a:lnTo>
                  <a:lnTo>
                    <a:pt x="1572" y="292"/>
                  </a:lnTo>
                  <a:lnTo>
                    <a:pt x="1179" y="0"/>
                  </a:lnTo>
                </a:path>
              </a:pathLst>
            </a:custGeom>
            <a:solidFill>
              <a:srgbClr val="7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33600" y="1749600"/>
              <a:ext cx="20224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05320" y="1703520"/>
            <a:ext cx="2417760" cy="928440"/>
            <a:chOff x="5305320" y="1703520"/>
            <a:chExt cx="2417760" cy="928440"/>
          </a:xfrm>
        </p:grpSpPr>
        <p:sp>
          <p:nvSpPr>
            <p:cNvPr id="129" name=""/>
            <p:cNvSpPr/>
            <p:nvPr/>
          </p:nvSpPr>
          <p:spPr>
            <a:xfrm>
              <a:off x="5305320" y="1703520"/>
              <a:ext cx="2417760" cy="928440"/>
            </a:xfrm>
            <a:custGeom>
              <a:avLst/>
              <a:gdLst/>
              <a:ahLst/>
              <a:rect l="l" t="t" r="r" b="b"/>
              <a:pathLst>
                <a:path w="1523" h="585">
                  <a:moveTo>
                    <a:pt x="1141" y="0"/>
                  </a:moveTo>
                  <a:lnTo>
                    <a:pt x="0" y="0"/>
                  </a:lnTo>
                  <a:lnTo>
                    <a:pt x="380" y="292"/>
                  </a:lnTo>
                  <a:lnTo>
                    <a:pt x="0" y="584"/>
                  </a:lnTo>
                  <a:lnTo>
                    <a:pt x="1141" y="584"/>
                  </a:lnTo>
                  <a:lnTo>
                    <a:pt x="1522" y="292"/>
                  </a:lnTo>
                  <a:lnTo>
                    <a:pt x="114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8120" y="1744560"/>
              <a:ext cx="19684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20920" y="1763640"/>
            <a:ext cx="1898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Awaren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6120" y="1763640"/>
            <a:ext cx="1647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Understanding and Assess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1763640"/>
            <a:ext cx="1720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6400" y="1844640"/>
            <a:ext cx="1809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40" y="1893960"/>
            <a:ext cx="1263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Project Pha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40" y="27194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Key Step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5133960"/>
            <a:ext cx="1503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Deliverabl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8680" y="5164200"/>
            <a:ext cx="154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AS 39 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2719440"/>
            <a:ext cx="1557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nduct IAS 39 technical accounting workshops with potentially impacted business areas accounting and other interested parti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716200"/>
            <a:ext cx="22100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solve technical accounting question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derivatives usage (including embedded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financial assets and financial liabilities usag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view current state of business processes (BP) and systems (IT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y BP and IT “gaps” vs. requirements and alternatives to fill the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hoose alternativ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Estimate P&amp;L impact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228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impacted activities (inc. derivative inventory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High-level BP and IT m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gaps between current BP/IT vs. IAS 39 requirements, alternatives to fill the gap and agreed upon decisions on how to fill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Quantified P&amp;L impact for both minimum  compliance and achievement of hedge accoun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64200"/>
            <a:ext cx="1876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specifications for each busines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redesign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18480" y="5164200"/>
            <a:ext cx="20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ccepted changes  to IT and BP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mplianc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26400" y="2752560"/>
            <a:ext cx="2025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ollout and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User acceptance tes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Recommended IAS 39 Implementation Approach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1600200"/>
          <a:ext cx="8227800" cy="474804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rivatives to be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later reversal necessar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Financial assets and liabilities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of previous carrying amou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When sold reversal possible for AFS (Q&amp;A 172-1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8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valuation gain (IAS 25) in separate component if related to AFS with fair value changes in equity; otherwis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 - continued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59000"/>
          <a:ext cx="822780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ferred gains and losses, now 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in separate component of equity (if expected to occur Q&amp;A 172-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eat in conformity with CFH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Hedged items in FV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djust balance sheet position to reflect fair value of hedging instrument (in retained earnings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pply FVH 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t mentioned in IAS 39; include in separate compon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o be reversed when hedged item recognise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In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; includ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: remains in equ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mplementation process and organisatio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ypical Implementation Structur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3887640" y="1612800"/>
            <a:ext cx="2210040" cy="1067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Steer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3073320"/>
            <a:ext cx="2210040" cy="1067040"/>
          </a:xfrm>
          <a:prstGeom prst="ellips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Work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8440" y="4572000"/>
            <a:ext cx="18288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Project Manag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689440"/>
            <a:ext cx="5870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Implementation Tea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4827240" y="5475240"/>
            <a:ext cx="330120" cy="331920"/>
          </a:xfrm>
          <a:prstGeom prst="rtTriangl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0000">
            <a:off x="4827240" y="4332240"/>
            <a:ext cx="330120" cy="33192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8100000">
            <a:off x="4827240" y="2859120"/>
            <a:ext cx="330120" cy="331920"/>
          </a:xfrm>
          <a:prstGeom prst="rtTriangl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Awarenes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implementation team(s)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leader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business areas that will be most impacted (accounting, treasury, other interested partie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Hold workshops and training (run by technical accountant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1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enterprise’s key issu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Evaluate the financial instruments used by the enterpris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ny off-balance sheet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nalyse usage of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assification of all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rivatives usag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Perform an “inventory” of all derivatives including embedded derivatives (both on and off balance sheet)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etermine whether embedded derivatives must be separated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Review internal / treasury hedging practic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2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business process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cision making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ill the enterprise have HTM investments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oes the enterprise plan to use hedge accounting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lternativ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ssess P&amp;L impact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IT system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an systems support: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fair value calculations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mortised cost calculation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impairment assessment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NPV of expected cash flows information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“gaps”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Desig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duce IT specifications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orkaround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Enhanc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raft new business and accounting policies and procedures (where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o support hedging decision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consistent accounting for financial instruments enterprise-wi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financial reporting requir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ocumentation of hedge relationship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Univers 45 Light"/>
              </a:rPr>
              <a:t>critical</a:t>
            </a: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 by adoption dat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ICT</dc:creator>
  <dc:description>SEPTEMBER 1999 Release candidate 2.0</dc:description>
  <dc:language>en-US</dc:language>
  <cp:lastModifiedBy>KPMG</cp:lastModifiedBy>
  <cp:lastPrinted>2000-05-24T16:39:45Z</cp:lastPrinted>
  <dcterms:modified xsi:type="dcterms:W3CDTF">2001-05-24T10:21:44Z</dcterms:modified>
  <cp:revision>276</cp:revision>
  <dc:subject>KIS2 compliant template </dc:subject>
  <dc:title>KPMG Blank Presentation Template</dc:title>
</cp:coreProperties>
</file>